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52B-E086-4A91-AF3D-71CA3BF2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B79-DA5A-4FCB-842F-62E4E976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5DC-26A5-4E04-83A2-684F95C8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FD8-10F3-4567-87FB-BEEC3AAE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5B0-4B14-4C32-9ABC-07C08AAA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496-7417-4B47-8199-555F49B4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5E2-6093-4BE7-A14E-E0A3431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73C-5663-4857-B132-BB23077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36B-66EA-4BEC-B83B-6DF55EC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B27-8D1F-41AC-9CA0-5E73913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F00-9A95-4032-9407-EA5C9F4B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F96-2F9B-458A-8894-B9E3C49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E1D-EF7F-40F3-B6EB-B0F2BF901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tober 17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0" t="0" r="0" b="42481"/>
          <a:stretch/>
        </p:blipFill>
        <p:spPr>
          <a:xfrm>
            <a:off x="304920" y="76320"/>
            <a:ext cx="838188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Alvar Nunez Cabeza de Vac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5760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Wanted to travel and adventur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____________ by a hurricane near present-day __________. He and three other members of the expedition survived. They traveled across the Southwest, eventually reaching ____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blished an account of his experiences, urging better ___________ of American 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897" t="37287" r="64041" b="31827"/>
          <a:stretch/>
        </p:blipFill>
        <p:spPr>
          <a:xfrm>
            <a:off x="152280" y="1371600"/>
            <a:ext cx="33530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0" t="6392" r="7897" b="62718"/>
          <a:stretch/>
        </p:blipFill>
        <p:spPr>
          <a:xfrm>
            <a:off x="304920" y="1371600"/>
            <a:ext cx="8448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uan Ponce de Leon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4"/>
          <p:cNvSpPr/>
          <p:nvPr/>
        </p:nvSpPr>
        <p:spPr>
          <a:xfrm>
            <a:off x="53352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4"/>
          <p:cNvSpPr/>
          <p:nvPr/>
        </p:nvSpPr>
        <p:spPr>
          <a:xfrm>
            <a:off x="228600" y="22860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Hernando de Soto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4"/>
          <p:cNvSpPr/>
          <p:nvPr/>
        </p:nvSpPr>
        <p:spPr>
          <a:xfrm>
            <a:off x="0" y="32004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Why is Francisco Vasquez de Coronado famou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4"/>
          <p:cNvSpPr/>
          <p:nvPr/>
        </p:nvSpPr>
        <p:spPr>
          <a:xfrm>
            <a:off x="228600" y="424512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Alvar Nunez Cabeza de Vaca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1905120"/>
            <a:ext cx="4419360" cy="403848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anish Explor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an Ponce de Le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nando de S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ancisco Vasquez de Coro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var Nunez Cabeza de Va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nish Explor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Textbook p. 108 – 10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ish Explorers came to North America looking for ____________ and for places they had heard stories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oped their discoveries would make them __________ and 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___________ of the Spanish explorers was eas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_________ always find what they were _________ f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an Ponce de Le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5760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find gold and a legendary ___________ of you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first ________ to set foot in __________ in ____. Explored the Florida Co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Florida after the ____________ words for Easter, “Pascua de Florida” (Feast of Flowers), because it was the __________ season when he landed the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rcRect l="5086" t="37287" r="66846" b="33956"/>
          <a:stretch/>
        </p:blipFill>
        <p:spPr>
          <a:xfrm>
            <a:off x="228600" y="1371600"/>
            <a:ext cx="316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594320" cy="637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3867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3"/>
          <p:cNvSpPr/>
          <p:nvPr/>
        </p:nvSpPr>
        <p:spPr>
          <a:xfrm>
            <a:off x="3429000" y="152280"/>
            <a:ext cx="5486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ed ________ and 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 a large army through the American _________, from present-day Florida to __________. Planned to _______ and colonize the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believe he and his all-volunteer army were the first ___________ to see the ____________ R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34567" t="37287" r="37372" b="33956"/>
          <a:stretch/>
        </p:blipFill>
        <p:spPr>
          <a:xfrm>
            <a:off x="152280" y="1523880"/>
            <a:ext cx="3105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57240" y="571680"/>
            <a:ext cx="7229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Francisco Vasquez de Coronad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304920"/>
            <a:ext cx="5486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nted to find 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lor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dventurer, Coronado assembled a large expedition and traveled throughout the ___________and the ____________. He hoped to find some legendary cities of 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ing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his men were the first Europeans to see the ___________and to live among the _________ India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64041" t="37287" r="7897" b="31827"/>
          <a:stretch/>
        </p:blipFill>
        <p:spPr>
          <a:xfrm>
            <a:off x="228600" y="1371600"/>
            <a:ext cx="325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3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0-17T19:18:01Z</dcterms:modified>
  <cp:revision>32</cp:revision>
  <dc:subject/>
  <dc:title>Famous People Friday</dc:title>
</cp:coreProperties>
</file>